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BA4-EF78-423F-9E7C-248CEF8D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0A4-A83C-4899-A780-669BAE62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B6D-6DFD-4AC3-8994-466C06D1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8EF-A29D-412A-A53B-87C70D99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FAB2-3D0D-4D9F-9825-9AC2B7FD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1FFF-C003-48EE-BCAA-B3FAC5F0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F6A0-5FCE-4DC8-AD4D-7244A979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D675-55BD-48AF-A747-FCB08347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CEC0-AE08-4AFC-BBEC-91BF450E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44E0-C7B4-4364-86DE-4A10750F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B05E-63B4-4B18-90EF-FB62714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212-795B-43B0-BA6E-C5A2B26E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430E-FA50-4A47-8476-2BE6B4D2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499C-66DF-4D2F-9C94-942DE6F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228C-BCB3-4E4F-B07A-41B6F0F8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DD7B-9AF0-4B2D-8CD0-DA4C6A74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25AF-7E5A-4E4E-9198-FA51864D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E95-6ED9-46F4-9090-C38B4BA7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68D-B317-4825-A2B4-5ECCE714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CA4-AEF9-4FFD-A337-862D012B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012-0359-4FD0-BF8F-6516825E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AB3-E364-4EAE-9731-D4629DC2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746-7714-4C73-9636-C55D4EC8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F69-D032-445D-9F2B-39779B53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A61D-B078-470A-ABA3-3255281A4F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D0F5-8EA4-47E1-8AD1-5A1D8EABFA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73120" y="208296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99"/>
                </a:solidFill>
                <a:latin typeface="Tahoma"/>
              </a:rPr>
              <a:t>Karyotypes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wn Syndrome (Trisomy 2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52120" y="2499840"/>
            <a:ext cx="793764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The older the mother (over 35), the higher the risk for Down Syndr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Usually have physical and mental difficulties; very distinct physical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downs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7242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urnerKaryo" descr=""/>
          <p:cNvPicPr/>
          <p:nvPr/>
        </p:nvPicPr>
        <p:blipFill>
          <a:blip r:embed="rId1"/>
          <a:stretch/>
        </p:blipFill>
        <p:spPr>
          <a:xfrm>
            <a:off x="1828800" y="1866960"/>
            <a:ext cx="5638680" cy="4591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19320" y="825480"/>
            <a:ext cx="7924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Tahoma"/>
              </a:rPr>
              <a:t>What is Wrong With This Karyotype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229440" y="5307120"/>
            <a:ext cx="1377720" cy="763560"/>
            <a:chOff x="6229440" y="5307120"/>
            <a:chExt cx="1377720" cy="763560"/>
          </a:xfrm>
        </p:grpSpPr>
        <p:sp>
          <p:nvSpPr>
            <p:cNvPr id="138" name=""/>
            <p:cNvSpPr/>
            <p:nvPr/>
          </p:nvSpPr>
          <p:spPr>
            <a:xfrm>
              <a:off x="6229440" y="5307120"/>
              <a:ext cx="637920" cy="763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70600" y="5715000"/>
              <a:ext cx="73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594560" y="5435640"/>
            <a:ext cx="1346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em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rner’s Syndro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06640" y="230940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Symptoms are usually isolated to the reproductive system (these women are usually steri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KlineKaryo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870440" cy="4851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825480"/>
            <a:ext cx="7924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Tahoma"/>
              </a:rPr>
              <a:t>What is Wrong With This Karyotype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772240" y="5365800"/>
            <a:ext cx="1365120" cy="979560"/>
            <a:chOff x="5772240" y="5365800"/>
            <a:chExt cx="1365120" cy="979560"/>
          </a:xfrm>
        </p:grpSpPr>
        <p:sp>
          <p:nvSpPr>
            <p:cNvPr id="146" name=""/>
            <p:cNvSpPr/>
            <p:nvPr/>
          </p:nvSpPr>
          <p:spPr>
            <a:xfrm>
              <a:off x="5772240" y="5365800"/>
              <a:ext cx="766800" cy="979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40480" y="5880240"/>
              <a:ext cx="5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188120" y="5587920"/>
            <a:ext cx="142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linefelter’s Syndro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55520" y="2449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Symptoms are usually isolated to the reproductive system (these men are usually steri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35040" y="4292640"/>
            <a:ext cx="6883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ahoma"/>
              </a:rPr>
              <a:t>Homologous Chromosomes (Pairs):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matching chromosomes; you get one of each “number” from each par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3200" y="2387520"/>
            <a:ext cx="7188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hromosomes are photographed during metaphase, cut out, and arranged into homologous pai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3520" y="2108160"/>
            <a:ext cx="6032520" cy="1766520"/>
            <a:chOff x="533520" y="2108160"/>
            <a:chExt cx="6032520" cy="1766520"/>
          </a:xfrm>
        </p:grpSpPr>
        <p:sp>
          <p:nvSpPr>
            <p:cNvPr id="105" name=""/>
            <p:cNvSpPr/>
            <p:nvPr/>
          </p:nvSpPr>
          <p:spPr>
            <a:xfrm>
              <a:off x="533520" y="2108160"/>
              <a:ext cx="3886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ahoma"/>
                </a:rPr>
                <a:t>Autoso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2629080"/>
              <a:ext cx="603252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Chromosome pairs #1 – 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Contain most of your trait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58720" y="4152960"/>
            <a:ext cx="6489720" cy="2363040"/>
            <a:chOff x="558720" y="4152960"/>
            <a:chExt cx="6489720" cy="2363040"/>
          </a:xfrm>
        </p:grpSpPr>
        <p:sp>
          <p:nvSpPr>
            <p:cNvPr id="108" name=""/>
            <p:cNvSpPr/>
            <p:nvPr/>
          </p:nvSpPr>
          <p:spPr>
            <a:xfrm>
              <a:off x="571680" y="4152960"/>
              <a:ext cx="3733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ahoma"/>
                </a:rPr>
                <a:t>Sex Chromoso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640" y="5270400"/>
              <a:ext cx="640080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X is the large chromosome on #2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Y is the small chromosome on #2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8720" y="4686480"/>
              <a:ext cx="458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Chromosome pair #2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438280"/>
            <a:ext cx="7149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ahoma"/>
              </a:rPr>
              <a:t>Nondisjuction: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chromosomes do not separate properly during meio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54360" y="3898800"/>
            <a:ext cx="5473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</a:t>
            </a:r>
            <a:r>
              <a:rPr b="0" lang="en-US" sz="3000" spc="-1" strike="noStrike">
                <a:solidFill>
                  <a:srgbClr val="ff0000"/>
                </a:solidFill>
                <a:latin typeface="Tahoma"/>
              </a:rPr>
              <a:t>Monosomy: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one homologous chromosome is pres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41400" y="5270400"/>
            <a:ext cx="586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 </a:t>
            </a:r>
            <a:r>
              <a:rPr b="0" lang="en-US" sz="3000" spc="-1" strike="noStrike">
                <a:solidFill>
                  <a:srgbClr val="ff0000"/>
                </a:solidFill>
                <a:latin typeface="Tahoma"/>
              </a:rPr>
              <a:t>Trisomy: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three homologous chromosomes are 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l Karyo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NormalKaryo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150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137280" y="3833640"/>
            <a:ext cx="757080" cy="1785960"/>
            <a:chOff x="6137280" y="3833640"/>
            <a:chExt cx="757080" cy="1785960"/>
          </a:xfrm>
        </p:grpSpPr>
        <p:sp>
          <p:nvSpPr>
            <p:cNvPr id="119" name=""/>
            <p:cNvSpPr/>
            <p:nvPr/>
          </p:nvSpPr>
          <p:spPr>
            <a:xfrm>
              <a:off x="6137280" y="3833640"/>
              <a:ext cx="757080" cy="919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10240" y="4781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272280" y="5548320"/>
            <a:ext cx="1066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272280" y="5548320"/>
            <a:ext cx="145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em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rmalFemale" descr=""/>
          <p:cNvPicPr/>
          <p:nvPr/>
        </p:nvPicPr>
        <p:blipFill>
          <a:blip r:embed="rId1"/>
          <a:stretch/>
        </p:blipFill>
        <p:spPr>
          <a:xfrm>
            <a:off x="1908000" y="403200"/>
            <a:ext cx="5505480" cy="500868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6143760" y="3957480"/>
            <a:ext cx="799920" cy="1543320"/>
            <a:chOff x="6143760" y="3957480"/>
            <a:chExt cx="799920" cy="1543320"/>
          </a:xfrm>
        </p:grpSpPr>
        <p:sp>
          <p:nvSpPr>
            <p:cNvPr id="125" name=""/>
            <p:cNvSpPr/>
            <p:nvPr/>
          </p:nvSpPr>
          <p:spPr>
            <a:xfrm>
              <a:off x="6143760" y="3957480"/>
              <a:ext cx="799920" cy="102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43720" y="4971960"/>
              <a:ext cx="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normal Karyo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DownsKaryo" descr=""/>
          <p:cNvPicPr/>
          <p:nvPr/>
        </p:nvPicPr>
        <p:blipFill>
          <a:blip r:embed="rId1"/>
          <a:stretch/>
        </p:blipFill>
        <p:spPr>
          <a:xfrm>
            <a:off x="1739880" y="1905120"/>
            <a:ext cx="5207040" cy="4952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122720" y="5473800"/>
            <a:ext cx="760320" cy="947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825480"/>
            <a:ext cx="7924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Tahoma"/>
              </a:rPr>
              <a:t>What is Wrong With This Karyotype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6:59:22Z</dcterms:created>
  <dc:creator>Plano ISD</dc:creator>
  <dc:description/>
  <dc:language>en-US</dc:language>
  <cp:lastModifiedBy>Plano ISD</cp:lastModifiedBy>
  <dcterms:modified xsi:type="dcterms:W3CDTF">2004-11-29T22:41:02Z</dcterms:modified>
  <cp:revision>9</cp:revision>
  <dc:subject/>
  <dc:title>PowerPoint Presentation</dc:title>
</cp:coreProperties>
</file>